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CFC3-8A79-4E88-83C2-E1C603EA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1D7C-EA18-428C-B9E4-5D7AAA2A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6D6-57C5-48A7-99DE-7520E139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C172-B1E3-457D-B503-FB0C02447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8BD3-94B9-427E-B633-D52C914C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AAE4-3B24-4EF7-843A-D491C8EF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A083-C160-4790-BD16-06326B6B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EE9B-B7A1-49D0-BA09-F9F6A261E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A49-6A49-4A74-A0DF-8A2A82F1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E19-D6CB-49C5-ABFE-344FD6AC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BF4-641D-410A-B4AF-C9D33E8D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EDDE-DD8E-409B-AC9A-A038590D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8F7B-47BE-40D9-9CEB-E4C6C771C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google.co.nz/imgres?imgurl=http://content.artofmanliness.com/uploads/2008/07/coral-snake.jpg&amp;imgrefurl=http://artofmanliness.com/2008/07/14/complete-guide-to-snakes/&amp;usg=__rcROPJXd-ZjkzFHD1dP0Bq24u8s=&amp;h=336&amp;w=448&amp;sz=39&amp;hl=en&amp;start=1&amp;zoom=1&amp;itbs=1&amp;tbnid=onbQ0aMnW3-L_M:&amp;tbnh=95&amp;tbnw=127&amp;prev=/images%3Fq%3DSnake%26hl%3Den%26gbv%3D2%26tbs%3Disch:1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ww.google.co.nz/imgres?imgurl=http://static.howstuffworks.com/gif/willow/coral-snake-info0.gif&amp;imgrefurl=http://animals.howstuffworks.com/snakes/coral-snake-info.htm&amp;usg=__Cdc0tnl3HV5fFRlK7kz-Cndq3YM=&amp;h=300&amp;w=432&amp;sz=57&amp;hl=en&amp;start=7&amp;zoom=1&amp;itbs=1&amp;tbnid=y0DZxjHUPDIeYM:&amp;tbnh=88&amp;tbnw=126&amp;prev=/images%3Fq%3DSnake%26hl%3Den%26gbv%3D2%26tbs%3Disch:1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E ARE LEARNING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fffff"/>
                </a:solidFill>
                <a:latin typeface="Chiller"/>
              </a:rPr>
              <a:t>Use similes to describe how we move at swimm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1268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99cc00"/>
                </a:solidFill>
                <a:latin typeface="comic"/>
              </a:rPr>
              <a:t>As slippery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40360" y="765000"/>
            <a:ext cx="10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Broadway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Broadway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00"/>
                </a:solidFill>
                <a:latin typeface="Broadway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6589800" y="3789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Monotype Corsiva"/>
              </a:rPr>
              <a:t>SSSSSSSSSSSSSSSSSSSSN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04000" y="3284640"/>
            <a:ext cx="1827360" cy="1547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8000" y="2427120"/>
            <a:ext cx="1584360" cy="118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971880" y="2808360"/>
            <a:ext cx="1679760" cy="117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24000" y="5173560"/>
            <a:ext cx="178884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5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47 -0.17229 C 0.24045 -0.18293 0.28316 -0.19357 0.29792 -0.19357 C 0.39271 -0.19357 0.48993 -0.02706 0.48993 0.13946 C 0.48993 0.05551 0.53837 -0.02706 0.58455 -0.02706 C 0.63299 -0.02706 0.67917 0.05689 0.67917 0.13946 C 0.67917 0.09806 0.7033 0.05551 0.72743 0.05551 C 0.75191 0.05551 0.77604 0.0969 0.77604 0.13946 C 0.77604 0.11818 0.78854 0.09806 0.8007 0.09806 C 0.81302 0.09806 0.82483 0.11934 0.82483 0.13946 C 0.82483 0.12882 0.83125 0.11818 0.83715 0.11818 C 0.84028 0.11818 0.84931 0.12882 0.84931 0.13946 C 0.84931 0.13414 0.85243 0.12882 0.85538 0.12882 C 0.85538 0.1302 0.86215 0.13414 0.86215 0.13946 C 0.86215 0.13668 0.86215 0.13414 0.86528 0.13414 C 0.86528 0.13552 0.86823 0.13691 0.86823 0.13946 C 0.86823 0.13807 0.86823 0.13668 0.86823 0.13552 C 0.87136 0.13552 0.87136 0.13691 0.87136 0.1383 C 0.87465 0.1383 0.87465 0.13691 0.87465 0.13552 C 0.87795 0.13552 0.87795 0.13691 0.87795 0.1383 E">
                                      <p:cBhvr>
                                        <p:cTn id="3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21:53:44Z</dcterms:created>
  <dc:creator>Ministry of Education</dc:creator>
  <dc:description/>
  <dc:language>en-US</dc:language>
  <cp:lastModifiedBy>Ministry of Education</cp:lastModifiedBy>
  <dcterms:modified xsi:type="dcterms:W3CDTF">2010-08-28T22:14:39Z</dcterms:modified>
  <cp:revision>1</cp:revision>
  <dc:subject/>
  <dc:title>WE ARE LEARNING TO…</dc:title>
</cp:coreProperties>
</file>